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18.png" ContentType="image/png"/>
  <Override PartName="/ppt/media/image6.jpeg" ContentType="image/jpeg"/>
  <Override PartName="/ppt/media/image14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10.jpeg" ContentType="image/jpeg"/>
  <Override PartName="/ppt/media/image28.png" ContentType="image/png"/>
  <Override PartName="/ppt/media/image11.gif" ContentType="image/gif"/>
  <Override PartName="/ppt/media/image5.jpeg" ContentType="image/jpeg"/>
  <Override PartName="/ppt/media/image7.gif" ContentType="image/gif"/>
  <Override PartName="/ppt/media/image17.png" ContentType="image/png"/>
  <Override PartName="/ppt/media/image32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7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D7F-1C7E-49A3-A086-774554EC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EEA-274F-42C0-A6AB-41796A32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87A-0099-4C98-9306-535348C0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653-21C8-4D02-A8A0-71FAD247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EBB-BFDA-4103-B756-C0623E8E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63F-B90F-4638-B621-C47B3471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FEA-F60D-4F8C-9FBB-964434C9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98A-A924-45FB-BCE0-0A30A5A7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186-5AE2-40F2-A47A-EBF33552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3AE-D163-419F-B803-A7707B8B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66F-2937-4400-A0D2-0038985C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F75-A466-4FD2-B554-FC5080EC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DA50-6833-43ED-B80C-8F20827F3C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waibozi.com/300.htm" TargetMode="External"/><Relationship Id="rId2" Type="http://schemas.openxmlformats.org/officeDocument/2006/relationships/image" Target="../media/image22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365hr.com.cn/new/chengxin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-228600"/>
            <a:ext cx="9753840" cy="7086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92000" cy="575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124000" y="5486400"/>
            <a:ext cx="4648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诚信在你我身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/>
          <p:nvPr/>
        </p:nvSpPr>
        <p:spPr>
          <a:xfrm>
            <a:off x="3253320" y="319932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小学生心理健康与心理异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3928" t="0" r="32144" b="1022"/>
          <a:stretch/>
        </p:blipFill>
        <p:spPr>
          <a:xfrm>
            <a:off x="152280" y="228600"/>
            <a:ext cx="899172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66966" t="0" r="0" b="-30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哈佛大学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是世界上最著名的大学之一，这所学校把“真理”作为校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在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哈佛大学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的校门和建筑物上都刻了一个拉丁文单词“真理”，这个词代表了“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真相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诚实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正直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正门上还刻了一句话：“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真理之门只会向那些正直的民族开放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。”意思是说，在这个世界上那些不诚实的人是没有出路的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4495680"/>
            <a:ext cx="8381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为什么人们把诚实、守信</a:t>
            </a:r>
            <a:endParaRPr b="0" lang="en-US" sz="24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（守社会公德）看得那么重要呢？</a:t>
            </a:r>
            <a:endParaRPr b="0" lang="en-US" sz="24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533520"/>
            <a:ext cx="792504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80e08"/>
                </a:solidFill>
                <a:latin typeface="Times New Roman"/>
              </a:rPr>
              <a:t>本店没有温州货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   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人靠诚信在社会上立足，一个企业、一个行业甚至是一个地区也要靠诚信在社会上立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革开放之初，我国东南沿海的一些小厂为了赚取暴利，成批地生产假冒伪劣商品，这种现象最严重的就是温州地区，在那里一切假名牌应有尽有。时间长了，全国都知道温州货不可靠，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许多商店为了表明自己的信誉，都在店门口贴上“本店没有温州货”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使温州人一下子觉醒了，这才懂得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要把生意做大，必须靠诚实经营，用诚信树立商业信誉和企业形象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在的温州已经不生产假货了，整个社会又开始重新接受温州生产的货品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800600"/>
            <a:ext cx="7696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做假可能在没被人识破时会得到一定的利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可是不会长久，最终会自断前程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601992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仅仅是做生意才需要诚信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说说看，还有什么行业需要诚信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971800" y="1523880"/>
            <a:ext cx="182880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ff0066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讨论</a:t>
            </a:r>
            <a:endParaRPr b="0" lang="en-US" sz="2400" spc="1" strike="noStrike">
              <a:ln w="38160">
                <a:solidFill>
                  <a:srgbClr val="ff0066"/>
                </a:solidFill>
                <a:miter/>
              </a:ln>
              <a:solidFill>
                <a:srgbClr val="ffffff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762120" y="2666880"/>
            <a:ext cx="7391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假如你的同学、老师、医生、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警察、司机、父母、邻居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..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都不正直、诚实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后果会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70" name=""/>
          <p:cNvSpPr/>
          <p:nvPr/>
        </p:nvSpPr>
        <p:spPr>
          <a:xfrm>
            <a:off x="4331160" y="304920"/>
            <a:ext cx="8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cc00"/>
                </a:solidFill>
                <a:latin typeface="Times New Roman"/>
              </a:rPr>
              <a:t>世界将充满虚伪和欺骗、不公和悲惨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7016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1066680"/>
            <a:ext cx="5562360" cy="12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不信请看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451560" y="1146240"/>
            <a:ext cx="2374920" cy="57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如果遇到不信守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交通</a:t>
            </a: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规则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司机，很容易发生这种事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238880" cy="5334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228600"/>
            <a:ext cx="6781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又或者是行人不信守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交通</a:t>
            </a: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规则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也会发生这种事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38080" y="2590920"/>
            <a:ext cx="6553440" cy="2490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平安离不开诚信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219320" y="2819520"/>
            <a:ext cx="6651360" cy="1276200"/>
            <a:chOff x="1219320" y="2819520"/>
            <a:chExt cx="6651360" cy="1276200"/>
          </a:xfrm>
        </p:grpSpPr>
        <p:sp>
          <p:nvSpPr>
            <p:cNvPr id="78" name=""/>
            <p:cNvSpPr/>
            <p:nvPr/>
          </p:nvSpPr>
          <p:spPr>
            <a:xfrm>
              <a:off x="1219320" y="2819520"/>
              <a:ext cx="6651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2819520"/>
              <a:ext cx="665136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6705720" cy="2438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2819520"/>
            <a:ext cx="8001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术后化疗竟要人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　１９９９年９月，李珍（化名）在广州市十二人民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医院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做甲状腺癌根治术，术后因院方在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无消毒隔离或进入洁净病房、无进行必要的各项检查、无强有力的预防感染措施、无干细胞支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情况下，对李珍施予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超常规剂量数倍的化疗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致李珍出现严重的感染性休克、内出血、全身衰竭，于１９９９年１０月１４日在医院</a:t>
            </a:r>
            <a:r>
              <a:rPr b="1" lang="zh-CN" sz="2800" spc="-1" strike="noStrike">
                <a:solidFill>
                  <a:srgbClr val="fc0a04"/>
                </a:solidFill>
                <a:latin typeface="Tahoma"/>
              </a:rPr>
              <a:t>死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828800"/>
            <a:ext cx="822960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医生医德若有问题，你敢进医院治病吗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4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257800" y="1523880"/>
            <a:ext cx="3635280" cy="327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90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8240" y="1112760"/>
            <a:ext cx="31068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被咬掉耳朵的妈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一个小孩的妈妈品行不好，经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教孩子撒谎，鼓励孩子占别人的小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一次，父亲捕了几条鱼，可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家里没有炸鱼的油了，于是妈妈就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孩子拿着一团棉花到油坊的油缸里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油，孩子照着妈妈说的方法做了，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从棉花里挤出一大碗的油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44197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夸他真有本事，当天晚上孩子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了香喷喷的炸鱼。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孩子胆子越来越大，开始偷鸡摸狗，骗人钱财，再后来就是抢劫杀人，最后他被判了</a:t>
            </a:r>
            <a:r>
              <a:rPr b="1" lang="zh-CN" sz="2400" spc="-1" strike="noStrike">
                <a:solidFill>
                  <a:srgbClr val="f80e08"/>
                </a:solidFill>
                <a:latin typeface="Times New Roman"/>
              </a:rPr>
              <a:t>死刑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临刑前母亲来看他，他说，都是你，你害了我，于是把妈妈的耳朵咬掉了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10240" y="380880"/>
            <a:ext cx="52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父母亲要是不诚信</a:t>
            </a: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后果可以祸及后代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81080" y="76212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一中国留学生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在德国某出名大学毕业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想留在德国就业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按他的成绩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应该不难在大公司找到高薪水的职位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过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他去了几家公司面试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人家都很客气地据绝了他…后来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一间小公司也是如此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他忍不住问为什么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后来才知道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招聘单位按他的名字在网上查找他的资料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3333cc"/>
                </a:solidFill>
                <a:latin typeface="Times New Roman"/>
              </a:rPr>
              <a:t>发现他在德国读书期间有三次乘电车</a:t>
            </a:r>
            <a:r>
              <a:rPr b="1" lang="zh-CN" sz="2700" spc="-1" strike="noStrike">
                <a:solidFill>
                  <a:srgbClr val="660066"/>
                </a:solidFill>
                <a:latin typeface="Times New Roman"/>
              </a:rPr>
              <a:t>逃票</a:t>
            </a:r>
            <a:r>
              <a:rPr b="1" lang="zh-CN" sz="2700" spc="-1" strike="noStrike">
                <a:solidFill>
                  <a:srgbClr val="3333cc"/>
                </a:solidFill>
                <a:latin typeface="Times New Roman"/>
              </a:rPr>
              <a:t>的记录</a:t>
            </a:r>
            <a:r>
              <a:rPr b="1" lang="zh-CN" sz="27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认为他人品有问题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诚实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而一个公司的员工如果不具备诚信的话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这间公司是无法经营下去的…所以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43000" y="5181480"/>
            <a:ext cx="6248520" cy="145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做人不诚信</a:t>
            </a: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往往会因</a:t>
            </a: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"</a:t>
            </a:r>
            <a:r>
              <a:rPr b="0" lang="zh-CN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小</a:t>
            </a: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"</a:t>
            </a:r>
            <a:r>
              <a:rPr b="0" lang="zh-CN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失大</a:t>
            </a: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32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752480"/>
            <a:ext cx="1905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小事”不诚信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留学生的求职遭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0880" y="914400"/>
            <a:ext cx="533412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诚信是金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66680" y="121932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原来，生活的平安、顺利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和美好</a:t>
            </a: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离不开人们的诚信</a:t>
            </a: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431496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值得庆幸的是，这个世上绝大多数人都是相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诚信的，如果我们这一代能更诚信，那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会更美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1905120"/>
            <a:ext cx="84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352680" y="3443400"/>
            <a:ext cx="5334120" cy="3414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4120" y="58672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大火后的芝加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227240"/>
            <a:ext cx="80773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芝加哥大火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国著名城市芝加哥曾经发生了世界上罕见的大火，成千上万的商人在这次大火中失去了所有的财富，一夜之间就变成了穷光蛋，有的还背上了巨额的债务。 可是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们中的很多人很快就创办了自己的公司，有的甚至比遭受火灾之前更富有。因为他们的诚实信用就是他们的银行账户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多年的商业往来中，他们从不拖欠银行的贷款，有很好的声誉，许多银行都主动借钱给他们，他们凭着自己的勤奋和信用又开辟了自己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业。 </a:t>
            </a:r>
            <a:r>
              <a:rPr b="1" lang="zh-CN" sz="2400" spc="-1" strike="noStrike">
                <a:solidFill>
                  <a:srgbClr val="fc0a04"/>
                </a:solidFill>
                <a:latin typeface="宋体"/>
              </a:rPr>
              <a:t>火曾经毁掉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a04"/>
                </a:solidFill>
                <a:latin typeface="宋体"/>
              </a:rPr>
              <a:t>他们的财产，但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a04"/>
                </a:solidFill>
                <a:latin typeface="宋体"/>
              </a:rPr>
              <a:t>永远毁灭不了他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a04"/>
                </a:solidFill>
                <a:latin typeface="宋体"/>
              </a:rPr>
              <a:t>的信誉和声望</a:t>
            </a:r>
            <a:r>
              <a:rPr b="1" lang="zh-CN" sz="2800" spc="-1" strike="noStrike">
                <a:solidFill>
                  <a:srgbClr val="fc0a04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600" y="0"/>
            <a:ext cx="739152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当灾难降临</a:t>
            </a:r>
            <a:r>
              <a:rPr b="0" lang="en-US" sz="2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诚信可帮你度过困境</a:t>
            </a:r>
            <a:r>
              <a:rPr b="0" lang="en-US" sz="2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0066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诚实为本"/>
          <p:cNvPicPr/>
          <p:nvPr/>
        </p:nvPicPr>
        <p:blipFill>
          <a:blip r:embed="rId1"/>
          <a:stretch/>
        </p:blipFill>
        <p:spPr>
          <a:xfrm>
            <a:off x="-7920" y="0"/>
            <a:ext cx="45799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信义为纲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5345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  <a:path fill="darken" w="21600" h="29697">
                <a:moveTo>
                  <a:pt x="10800" y="7885"/>
                </a:moveTo>
                <a:lnTo>
                  <a:pt x="13376" y="10497"/>
                </a:lnTo>
                <a:lnTo>
                  <a:pt x="13376" y="8756"/>
                </a:lnTo>
                <a:lnTo>
                  <a:pt x="15152" y="8756"/>
                </a:lnTo>
                <a:lnTo>
                  <a:pt x="15152" y="12272"/>
                </a:lnTo>
                <a:lnTo>
                  <a:pt x="17763" y="14848"/>
                </a:lnTo>
                <a:lnTo>
                  <a:pt x="16109" y="14848"/>
                </a:lnTo>
                <a:lnTo>
                  <a:pt x="16109" y="22038"/>
                </a:lnTo>
                <a:lnTo>
                  <a:pt x="5491" y="22038"/>
                </a:lnTo>
                <a:lnTo>
                  <a:pt x="5491" y="14848"/>
                </a:lnTo>
                <a:lnTo>
                  <a:pt x="3837" y="14848"/>
                </a:lnTo>
                <a:close/>
              </a:path>
              <a:path fill="darkenLess" w="21600" h="29697">
                <a:moveTo>
                  <a:pt x="13376" y="10497"/>
                </a:moveTo>
                <a:lnTo>
                  <a:pt x="13376" y="8756"/>
                </a:lnTo>
                <a:lnTo>
                  <a:pt x="15152" y="8756"/>
                </a:lnTo>
                <a:lnTo>
                  <a:pt x="15152" y="12272"/>
                </a:lnTo>
                <a:close/>
              </a:path>
              <a:path fill="darkenLess" w="21600" h="29697">
                <a:moveTo>
                  <a:pt x="9877" y="18347"/>
                </a:moveTo>
                <a:lnTo>
                  <a:pt x="11723" y="18347"/>
                </a:lnTo>
                <a:lnTo>
                  <a:pt x="11723" y="22038"/>
                </a:lnTo>
                <a:lnTo>
                  <a:pt x="16109" y="22038"/>
                </a:lnTo>
                <a:lnTo>
                  <a:pt x="16109" y="14848"/>
                </a:lnTo>
                <a:lnTo>
                  <a:pt x="5491" y="14848"/>
                </a:lnTo>
                <a:lnTo>
                  <a:pt x="5491" y="22038"/>
                </a:lnTo>
                <a:lnTo>
                  <a:pt x="9877" y="2203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50344" r="0" b="0"/>
          <a:stretch/>
        </p:blipFill>
        <p:spPr>
          <a:xfrm>
            <a:off x="609480" y="1158840"/>
            <a:ext cx="7848720" cy="5699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以下行为什么不诚实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57150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cc"/>
                </a:solidFill>
                <a:latin typeface="Arial"/>
              </a:rPr>
              <a:t>这是作弊行为，成绩是虚假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0" b="60607"/>
          <a:stretch/>
        </p:blipFill>
        <p:spPr>
          <a:xfrm>
            <a:off x="-762120" y="774720"/>
            <a:ext cx="9372600" cy="53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以下行为什么不诚实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7491" t="39398" r="801" b="21204"/>
          <a:stretch/>
        </p:blipFill>
        <p:spPr>
          <a:xfrm>
            <a:off x="304920" y="870120"/>
            <a:ext cx="8686800" cy="5454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以下行为什么不诚实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1722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cc"/>
                </a:solidFill>
                <a:latin typeface="Arial"/>
              </a:rPr>
              <a:t>没有做到实事求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以下行为什么不诚实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0613" t="20532" r="17575" b="48912"/>
          <a:stretch/>
        </p:blipFill>
        <p:spPr>
          <a:xfrm>
            <a:off x="533520" y="1496880"/>
            <a:ext cx="7848360" cy="489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38080" y="2438280"/>
            <a:ext cx="2667240" cy="21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当发现老师多给了分数时，不告诉老师，免得自己分数降低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10800" y="6918"/>
                </a:moveTo>
                <a:lnTo>
                  <a:pt x="13376" y="9529"/>
                </a:lnTo>
                <a:lnTo>
                  <a:pt x="13376" y="7788"/>
                </a:lnTo>
                <a:lnTo>
                  <a:pt x="15152" y="7788"/>
                </a:lnTo>
                <a:lnTo>
                  <a:pt x="15152" y="11304"/>
                </a:lnTo>
                <a:lnTo>
                  <a:pt x="17763" y="13881"/>
                </a:lnTo>
                <a:lnTo>
                  <a:pt x="16109" y="13881"/>
                </a:lnTo>
                <a:lnTo>
                  <a:pt x="16109" y="21070"/>
                </a:lnTo>
                <a:lnTo>
                  <a:pt x="5491" y="21070"/>
                </a:lnTo>
                <a:lnTo>
                  <a:pt x="5491" y="13881"/>
                </a:lnTo>
                <a:lnTo>
                  <a:pt x="3837" y="13881"/>
                </a:lnTo>
                <a:close/>
              </a:path>
              <a:path fill="darkenLess" w="21600" h="27761">
                <a:moveTo>
                  <a:pt x="13376" y="9529"/>
                </a:moveTo>
                <a:lnTo>
                  <a:pt x="13376" y="7788"/>
                </a:lnTo>
                <a:lnTo>
                  <a:pt x="15152" y="7788"/>
                </a:lnTo>
                <a:lnTo>
                  <a:pt x="15152" y="11304"/>
                </a:lnTo>
                <a:close/>
              </a:path>
              <a:path fill="darkenLess" w="21600" h="27761">
                <a:moveTo>
                  <a:pt x="9877" y="17379"/>
                </a:moveTo>
                <a:lnTo>
                  <a:pt x="11723" y="17379"/>
                </a:lnTo>
                <a:lnTo>
                  <a:pt x="11723" y="21070"/>
                </a:lnTo>
                <a:lnTo>
                  <a:pt x="16109" y="21070"/>
                </a:lnTo>
                <a:lnTo>
                  <a:pt x="16109" y="13881"/>
                </a:lnTo>
                <a:lnTo>
                  <a:pt x="5491" y="13881"/>
                </a:lnTo>
                <a:lnTo>
                  <a:pt x="5491" y="21070"/>
                </a:lnTo>
                <a:lnTo>
                  <a:pt x="9877" y="2107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10800" y="6918"/>
                </a:moveTo>
                <a:lnTo>
                  <a:pt x="13376" y="9529"/>
                </a:lnTo>
                <a:lnTo>
                  <a:pt x="13376" y="7788"/>
                </a:lnTo>
                <a:lnTo>
                  <a:pt x="15152" y="7788"/>
                </a:lnTo>
                <a:lnTo>
                  <a:pt x="15152" y="11304"/>
                </a:lnTo>
                <a:lnTo>
                  <a:pt x="17763" y="13881"/>
                </a:lnTo>
                <a:lnTo>
                  <a:pt x="16109" y="13881"/>
                </a:lnTo>
                <a:lnTo>
                  <a:pt x="16109" y="21070"/>
                </a:lnTo>
                <a:lnTo>
                  <a:pt x="5491" y="21070"/>
                </a:lnTo>
                <a:lnTo>
                  <a:pt x="5491" y="13881"/>
                </a:lnTo>
                <a:lnTo>
                  <a:pt x="3837" y="13881"/>
                </a:lnTo>
                <a:close/>
              </a:path>
              <a:path fill="darkenLess" w="21600" h="27761">
                <a:moveTo>
                  <a:pt x="13376" y="9529"/>
                </a:moveTo>
                <a:lnTo>
                  <a:pt x="13376" y="7788"/>
                </a:lnTo>
                <a:lnTo>
                  <a:pt x="15152" y="7788"/>
                </a:lnTo>
                <a:lnTo>
                  <a:pt x="15152" y="11304"/>
                </a:lnTo>
                <a:close/>
              </a:path>
              <a:path fill="darkenLess" w="21600" h="27761">
                <a:moveTo>
                  <a:pt x="9877" y="17379"/>
                </a:moveTo>
                <a:lnTo>
                  <a:pt x="11723" y="17379"/>
                </a:lnTo>
                <a:lnTo>
                  <a:pt x="11723" y="21070"/>
                </a:lnTo>
                <a:lnTo>
                  <a:pt x="16109" y="21070"/>
                </a:lnTo>
                <a:lnTo>
                  <a:pt x="16109" y="13881"/>
                </a:lnTo>
                <a:lnTo>
                  <a:pt x="5491" y="13881"/>
                </a:lnTo>
                <a:lnTo>
                  <a:pt x="5491" y="21070"/>
                </a:lnTo>
                <a:lnTo>
                  <a:pt x="9877" y="2107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52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3302280" cy="4952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95680" y="304920"/>
            <a:ext cx="0" cy="65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16880" y="57150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建筑工人挖到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坟墓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708360" cy="5562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22400" y="5686560"/>
            <a:ext cx="257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多年前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美国某机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要建孤儿院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6120" y="228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认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4368960" cy="6553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V="1">
            <a:off x="2895480" y="19051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457200"/>
            <a:ext cx="2209680" cy="243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7880" y="457200"/>
            <a:ext cx="131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墓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人的后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来认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美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赔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5080" y="57913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该机构将此事登报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91140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486400" y="5867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来了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304920"/>
            <a:ext cx="190512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0"/>
            <a:ext cx="21337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墓中人的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儿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呜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153280" y="21337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920" y="457200"/>
            <a:ext cx="12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登记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您是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儿子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言而有信  一诺千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什么是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诚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诚：诚实无欺、诚实做人、诚实做事，实事求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：有信用、讲信誉、守信义、不虚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理智的状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，一旦许下承诺，就要忠实履行，否则会产生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信任危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欺人可一时，但不能一世，一旦被识破，就难以在社会立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不诚信的人，伤害别人，也伤害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16320" cy="6324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72960" y="1143000"/>
            <a:ext cx="3741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头条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位死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的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竟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儿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单如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XX;XXX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510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9440" y="461952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报纸把这些来冒认尸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贪财人的名字登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出来…他在其中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537160" y="457200"/>
            <a:ext cx="3606840" cy="5410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9280" y="4630680"/>
            <a:ext cx="2977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很羞愧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珍藏这份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纸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警示自己要做一个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实可信的人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年后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成了全美通迅业的巨头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爱德华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53352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一张报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宋体"/>
              </a:rPr>
              <a:t>  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英格拉姆是英国著名报纸《伦敦图片新闻》的创始人。刚刚毕业的时候，报社的规模很小，报纸的发行量也很小。但是他一点儿也不灰心，真诚地对待每一位客户，即使是只订一张报纸的客户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次，为了不让他的读者失望，他送一张报纸步行了六千多米的路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久了，人们发现这份报纸总是能够提供最准确的新闻资讯，并且每期都能准时送到读者手里。人们开始争相订阅这份报纸。后来《伦敦图片新闻》成为十分畅销的报纸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62120" y="4800600"/>
            <a:ext cx="632448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诚信有助创业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命运也总是青睐诚信的人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1920" y="401760"/>
            <a:ext cx="73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古今中外因诚信而成为各个领域的佼佼者的例子实在太多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各行各业的精英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绝大多数都有着诚信的品质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365hr.com.cn/new/chengxin.ht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上就有不少这类事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28600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诚信适用于一切领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曾任美国波士顿市市长的哈特先生说，五十年来，他看到百分之九十的成功生意人都是正直和诚实的人，那些不诚实的生意人大多数都会破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在一次演讲中还说：“诚信是一条自然法则，违背诚信的人是会得到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报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诚信就像万有引力定律一样，适用于一切领域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拥有诚信，也就掌握了成功的方法。”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7823160" cy="2412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62120" y="1143000"/>
            <a:ext cx="80769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吃偷来的石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是中国共产党早期农民运动的成功的领导人。他六岁上学，是个品学兼优的好学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天中午放学，同学们路过一个围墙时，发现墙内有石榴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43000" y="0"/>
            <a:ext cx="6095880" cy="1069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诚信，你也可以做到：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94880" y="762120"/>
            <a:ext cx="4417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家很想吃。 这时候，一个大同学从旁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走过，就怂恿他们动手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摘下之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家站在围墙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边吃石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时，彭湃从后面赶了上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学习在班上总是第一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又常帮助同学，所以孩子们都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喜欢他。看到他来了，同学们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很慷慨地掰了一半石榴递给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说：“彭湃，石榴可甜了，你也吃一半吧！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20040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13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2950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380880"/>
            <a:ext cx="523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奇怪石榴是哪儿来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小同学说：“自己上去搞的！” 彭湃连忙把石榴退还，说：“你们偷人家的石榴，就不怕妈妈骂你吗？”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大一点儿的同学说：“不告诉妈妈，不就行了吗？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6440" y="375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24280" y="3809880"/>
            <a:ext cx="5394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的妈妈是一个很正直的农村妇女，她常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最近做了些什么事？哪些好，哪些坏？” 彭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总是如实回答。 他以为，别人的妈妈也会这样问孩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就很生气地说：“你们不但偷东西，而且还不诚实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再也不和你们玩了。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400800" y="2666880"/>
            <a:ext cx="2514600" cy="3810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9480" y="30492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回家后，彭湃把此事告诉妈妈。妈妈很高兴，但还试探着问：“你不想吃石榴吗？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答：“我很想吃呀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妈妈问：“那同学分给你，你怎么不要呢？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说：“那是偷来的，我不能要。要是让您知道我      吃了偷来的石榴，您会生气的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640" y="352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124080"/>
            <a:ext cx="64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妈妈问：“你不告诉我，我怎知道呢？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说：“可我不能撒谎啊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妈妈很高兴地说：“你真是个诚实的好孩子，妈妈给你钱，你自己去买石榴吧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接过钱，说：“谢谢妈妈！”就高兴地去买石榴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2960" y="284040"/>
            <a:ext cx="731664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-4680" y="290520"/>
            <a:ext cx="9153360" cy="6284880"/>
            <a:chOff x="-4680" y="290520"/>
            <a:chExt cx="9153360" cy="6284880"/>
          </a:xfrm>
        </p:grpSpPr>
        <p:grpSp>
          <p:nvGrpSpPr>
            <p:cNvPr id="165" name=""/>
            <p:cNvGrpSpPr/>
            <p:nvPr/>
          </p:nvGrpSpPr>
          <p:grpSpPr>
            <a:xfrm>
              <a:off x="0" y="295200"/>
              <a:ext cx="9144000" cy="6275520"/>
              <a:chOff x="0" y="295200"/>
              <a:chExt cx="9144000" cy="627552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0" y="295200"/>
                <a:ext cx="9144000" cy="6275160"/>
                <a:chOff x="0" y="295200"/>
                <a:chExt cx="9144000" cy="62751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295200"/>
                  <a:ext cx="9144000" cy="627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0" y="295200"/>
                  <a:ext cx="82296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0" y="295200"/>
                <a:ext cx="9144000" cy="6275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-4680" y="290520"/>
              <a:ext cx="9153360" cy="6284880"/>
            </a:xfrm>
            <a:prstGeom prst="rect">
              <a:avLst/>
            </a:prstGeom>
            <a:noFill/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 rot="5400000">
            <a:off x="4000320" y="3009960"/>
            <a:ext cx="52578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诚信的形成，从小事做起！</a:t>
            </a:r>
            <a:endParaRPr b="0" i="1" lang="en-US" sz="24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666880" y="1371600"/>
            <a:ext cx="2286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思考后回答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: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14600" y="3276720"/>
            <a:ext cx="6324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说说看，你对待别人（老师、同学、家人</a:t>
            </a: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......</a:t>
            </a: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）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在哪些方面做到了诚信？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这有好处吗</a:t>
            </a: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?</a:t>
            </a: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哪些方面没做到？会有什么后果吗</a:t>
            </a: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?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380880" y="2895480"/>
            <a:ext cx="8534520" cy="3581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124080"/>
            <a:ext cx="833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2387520"/>
            <a:ext cx="5638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们的诚信可以这样建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: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供参考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在校按中学生守则做到每一点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对父母孝顺体贴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对同学互助友爱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对每一个人都礼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不轻言承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诺则一诺千金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不做损人的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不轻浮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不开过火玩笑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不与人比吃穿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只比学习进步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480" y="0"/>
            <a:ext cx="7772400" cy="24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7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现在就定计划培养自己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成为一个诚信的人吧</a:t>
            </a: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/>
          <p:nvPr/>
        </p:nvSpPr>
        <p:spPr>
          <a:xfrm>
            <a:off x="6785280" y="653040"/>
            <a:ext cx="1642680" cy="72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的诚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造就你的成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的成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你家庭的荣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家庭的荣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祖国的荣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对人守信，对事负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诚信的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基本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守信，对事负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践约守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我们诚实做人的</a:t>
            </a:r>
            <a:r>
              <a:rPr b="1" lang="zh-CN" sz="2800" spc="-1" strike="noStrike" u="sng">
                <a:solidFill>
                  <a:srgbClr val="ff33cc"/>
                </a:solidFill>
                <a:uFillTx/>
                <a:latin typeface="Times New Roman"/>
              </a:rPr>
              <a:t>核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承诺是一种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严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事情。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轻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承诺而不兑现，是一种不良的品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做人方面实质上没有大事小事之分，做大事的同时也要拘小节，把做事与做人有机地统一起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719360" y="685800"/>
            <a:ext cx="59414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《诚信之约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我们祝愿  诚信的种子  播撒荒芜的心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我们期盼  诚信的利剑  斩断欺瞒的锁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我们牢记  古往今来    那些诚信的教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我们神往  茫茫人间    那些诚信的榜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我们呼唤  彼此诚实    一清如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我们呼唤  与人和睦    言行相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我们承诺  对家庭尽心  对社会负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我们承诺  对朋友忠诚  对世人关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049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7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447920" y="457200"/>
            <a:ext cx="6324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记住：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诚信由你我做起，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诚信就在你我身边！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143000" y="533520"/>
            <a:ext cx="670572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做诚信的人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坚持诚实，就会赢得信任。诚实是获得信任的前提，信任的基础是诚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不诚实的人蒙蔽他人，只是</a:t>
            </a:r>
            <a:r>
              <a:rPr b="1" lang="zh-CN" sz="2400" spc="-1" strike="noStrike" u="sng">
                <a:solidFill>
                  <a:srgbClr val="ff33cc"/>
                </a:solidFill>
                <a:uFillTx/>
                <a:latin typeface="Times New Roman"/>
              </a:rPr>
              <a:t>暂时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诚信守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守则之一：坚持实事求是，诚信的</a:t>
            </a:r>
            <a:r>
              <a:rPr b="1" lang="zh-CN" sz="2400" spc="-1" strike="noStrike" u="sng">
                <a:solidFill>
                  <a:srgbClr val="ff33cc"/>
                </a:solidFill>
                <a:uFillTx/>
                <a:latin typeface="Times New Roman"/>
              </a:rPr>
              <a:t>基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尊重客观事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守则之二：在涉及利益冲突时，应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站在多数人的利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边，不能以一己的私利损害多数人的利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守则之三：眼前利益与长远利益发生冲突时，站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在长远利益一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不能因为眼前的利益而损害长远的利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守则之四：在涉及情与法的冲突时，站在法律一边，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诚信所维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不是私情，而是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国家法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诚信的智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、诚信的要求是确定的，但作到诚信的具体条件又是具体的，需要我们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讲究诚信的智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、当诚实与尊重他人隐私发生冲突时，我们要结合具体的情景，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坚持原则，按照实际情况妥善处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、“善意的谎言”是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维护对方利益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需要，并不违背诚实的道德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、诚实的核心是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“善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几个古语的解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5080" y="1980720"/>
            <a:ext cx="633384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君子一言、驷马难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在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理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态下，一旦许下诺言，就要忠实地履行承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而无信，不知其可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做人不讲信用，不知他怎么可以立身处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65180" b="10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7:10:2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57:44Z</dcterms:modified>
  <cp:revision>52</cp:revision>
  <dc:subject>主题班会课件(分28大类): http://shop62905894.taobao.com</dc:subject>
  <dc:title>主题班会课件(分28大类): http://shop62905894.taobao.com</dc:title>
</cp:coreProperties>
</file>